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F611-91AE-4182-B4B3-49EE9BEB93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0DE-F34A-41E2-9F87-04AE8509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FBB-5681-470A-B440-0D5254EF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A56A-B19D-4288-A3D0-6AC9666B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620-6F89-492B-8EC5-D96DE387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E72F-E6D8-4350-8476-41A91411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3E7E-ADE9-4C4C-B7D6-D392D443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2A5D-4030-4B31-AC5F-C8551925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689D-4B97-4AB9-B605-73838F50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09F7-FCE2-4A2A-BB2A-BA88E76D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F3D0-DDCC-47FD-9D31-6FA34541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C2EE-D78D-46BB-9970-F8894D04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8EAB-CF66-4EFA-B8B3-457B9F38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A537-BC1A-4468-804C-4C8B6169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DAC6-C9C8-479F-A5AD-68009088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714F-8052-40B2-8029-8DC6A765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386A-2864-46AD-BE54-4BFE3507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22B4-3B58-425C-874F-751A0543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63E-6777-4117-BF0E-B315418B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344-B939-4FFB-AFFB-D8D475A3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4900-7A1B-4B66-A33F-18E0186E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341-DBB0-44AF-BAB6-2F4E1CA3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2FA-497A-4067-9B52-B6F44AD9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90C7-CF55-4541-8F3F-F1CB036C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432E-C3CD-41AB-8CC9-440271FB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DD4D-832C-4723-AAE4-FD9A9521D6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54A9-8D0F-4E5E-ABE8-54A8E79642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ersian Wa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nection to the Pa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 for Reve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Thermopyla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thermopyl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Downfa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Heroic A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partans0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spartansend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e come the Pers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Salam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re is Persi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Picture 4" descr="greecepersiamaplarge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ose Clever Athen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maxisalamiseng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5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Final Batt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id the Greeks do i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Figh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ushing the Revol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Marath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erious Mismat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c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10029246aBattle%20of%20Marath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laugh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2:47:39Z</dcterms:created>
  <dc:creator>brobison</dc:creator>
  <dc:description/>
  <dc:language>en-US</dc:language>
  <cp:lastModifiedBy>LEGION</cp:lastModifiedBy>
  <dcterms:modified xsi:type="dcterms:W3CDTF">2017-07-03T09:55:55Z</dcterms:modified>
  <cp:revision>9</cp:revision>
  <dc:subject/>
  <dc:title>The Persian Wars</dc:title>
</cp:coreProperties>
</file>